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054-37F4-450E-8E27-566D0EC1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326-0C27-4CA5-BBFA-EEFC6DB4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BC5-3592-497B-A91C-ED175FC6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5B9-C8F1-4B82-973D-58F72048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FBD-C059-4034-9292-954796FB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863-2F5F-4C01-86B5-71364364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5D6-CBED-4AD0-BE37-53DBC2CB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6A5-AF58-4215-84AB-042C19A3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A55-E25D-487C-887E-76859370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526-4C48-4D49-835A-C84CF41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95E-ABB1-410A-B0C4-D5664264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25D-7D03-45B6-B278-6547275E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C273-22F7-4BD5-A661-32C3799D0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8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Brady Bunch"/>
              </a:rPr>
              <a:t>Cost afal a phensil yw 60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000000"/>
                </a:solidFill>
                <a:latin typeface="Brady Bunch"/>
              </a:rPr>
              <a:t>Cost 5 afal a pensil yw £1.0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200" spc="-1" strike="noStrike">
                <a:solidFill>
                  <a:srgbClr val="000000"/>
                </a:solidFill>
                <a:latin typeface="Brady Bunch"/>
              </a:rPr>
              <a:t>Beth yw cost pensil?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200" spc="-1" strike="noStrike">
                <a:solidFill>
                  <a:srgbClr val="000000"/>
                </a:solidFill>
                <a:latin typeface="Brady Bunch"/>
              </a:rPr>
              <a:t>Beth yw cost afal?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586640" y="3662280"/>
            <a:ext cx="1449360" cy="1135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grayscl/>
          </a:blip>
          <a:stretch/>
        </p:blipFill>
        <p:spPr>
          <a:xfrm rot="10800000">
            <a:off x="-360" y="3499920"/>
            <a:ext cx="147780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08:22Z</dcterms:created>
  <dc:creator>Betsan Wyn Thomas</dc:creator>
  <dc:description/>
  <dc:language>en-US</dc:language>
  <cp:lastModifiedBy>Betsan Wyn Thomas</cp:lastModifiedBy>
  <dcterms:modified xsi:type="dcterms:W3CDTF">2008-09-09T21:08:50Z</dcterms:modified>
  <cp:revision>2</cp:revision>
  <dc:subject/>
  <dc:title>Slide 1</dc:title>
</cp:coreProperties>
</file>